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BE06A-902D-4150-BC19-819A733C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74D00-3BC5-475E-BCEB-E873C5F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66670-E618-4CFD-9962-FC996C9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BECD9-0D7C-4ABC-8CBC-D91F33F3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4BB4A-93F4-4D8F-9CBD-A30583C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B6100-6B5F-4A86-A529-A5E796DB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EC03-B49B-47F7-A2B4-4719342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CA852-0F20-4DE5-A0A4-01270E3C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8A608-2326-41A2-B6FA-F581F74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96C89-80E5-4104-9872-F5CA96A4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D67FD-29D4-469D-AD92-E0A18FF7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22CB-1A5C-4C95-AAFA-A2B27305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0" y="6249600"/>
            <a:ext cx="3733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9360" y="4487760"/>
            <a:ext cx="5754600" cy="23702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817800"/>
            <a:ext cx="8163000" cy="302112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46400"/>
            <a:ext cx="9144000" cy="369252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60600"/>
            <a:ext cx="9144000" cy="249876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93880"/>
            <a:ext cx="9144000" cy="153828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19080"/>
            <a:ext cx="9144000" cy="168120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19080"/>
            <a:ext cx="8388360" cy="106524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19080"/>
            <a:ext cx="4579920" cy="45252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28564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68436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9960"/>
            <a:ext cx="1906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7395-3D51-4B11-A712-A52D8FA59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320" y="3811680"/>
            <a:ext cx="48006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hsslogo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486400" y="6019920"/>
            <a:ext cx="3352680" cy="53316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5751" h="21600">
                <a:moveTo>
                  <a:pt x="0" y="0"/>
                </a:moveTo>
                <a:lnTo>
                  <a:pt x="135751" y="0"/>
                </a:lnTo>
                <a:lnTo>
                  <a:pt x="135751" y="21600"/>
                </a:lnTo>
                <a:lnTo>
                  <a:pt x="0" y="21600"/>
                </a:lnTo>
                <a:close/>
              </a:path>
              <a:path fill="lightenLess" w="135751" h="21600">
                <a:moveTo>
                  <a:pt x="0" y="0"/>
                </a:moveTo>
                <a:lnTo>
                  <a:pt x="135751" y="0"/>
                </a:lnTo>
                <a:lnTo>
                  <a:pt x="134351" y="1400"/>
                </a:lnTo>
                <a:lnTo>
                  <a:pt x="1400" y="1400"/>
                </a:lnTo>
                <a:close/>
              </a:path>
              <a:path fill="darken" w="135751" h="21600">
                <a:moveTo>
                  <a:pt x="135751" y="0"/>
                </a:moveTo>
                <a:lnTo>
                  <a:pt x="135751" y="21600"/>
                </a:lnTo>
                <a:lnTo>
                  <a:pt x="134351" y="20200"/>
                </a:lnTo>
                <a:lnTo>
                  <a:pt x="134351" y="1400"/>
                </a:lnTo>
                <a:close/>
              </a:path>
              <a:path fill="darkenLess" w="135751" h="21600">
                <a:moveTo>
                  <a:pt x="135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351" y="20200"/>
                </a:lnTo>
                <a:close/>
              </a:path>
              <a:path fill="lighten" w="135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da36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TA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ayWay OFFICE t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ff7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228600"/>
            <a:ext cx="2133720" cy="609480"/>
          </a:xfrm>
          <a:prstGeom prst="leftArrow">
            <a:avLst>
              <a:gd name="adj1" fmla="val 50000"/>
              <a:gd name="adj2" fmla="val 87522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lim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ff8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380880"/>
            <a:ext cx="2514600" cy="609840"/>
          </a:xfrm>
          <a:prstGeom prst="leftArrow">
            <a:avLst>
              <a:gd name="adj1" fmla="val 50000"/>
              <a:gd name="adj2" fmla="val 103084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setup column or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off9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505320" y="1905120"/>
            <a:ext cx="2438280" cy="160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colum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der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off10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38680" y="380880"/>
            <a:ext cx="2133720" cy="609840"/>
          </a:xfrm>
          <a:prstGeom prst="leftArrow">
            <a:avLst>
              <a:gd name="adj1" fmla="val 50000"/>
              <a:gd name="adj2" fmla="val 8747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bridge 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off1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200400" y="1828800"/>
            <a:ext cx="3200400" cy="1600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weighbri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762120"/>
            <a:ext cx="1905120" cy="685800"/>
          </a:xfrm>
          <a:prstGeom prst="right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rge data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off14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1981080"/>
            <a:ext cx="1981080" cy="1676520"/>
          </a:xfrm>
          <a:prstGeom prst="upArrowCallout">
            <a:avLst>
              <a:gd name="adj1" fmla="val 29544"/>
              <a:gd name="adj2" fmla="val 29542"/>
              <a:gd name="adj3" fmla="val 16667"/>
              <a:gd name="adj4" fmla="val 6666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accept to merg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from selected da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iod and  weighbri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tes into OFFIC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867280" y="76212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tory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off1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8680" y="2743200"/>
            <a:ext cx="2133720" cy="1600200"/>
          </a:xfrm>
          <a:prstGeom prst="upArrowCallout">
            <a:avLst>
              <a:gd name="adj1" fmla="val 33338"/>
              <a:gd name="adj2" fmla="val 33335"/>
              <a:gd name="adj3" fmla="val 16667"/>
              <a:gd name="adj4" fmla="val 6666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Accept to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ed history mon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y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1066680"/>
            <a:ext cx="1904760" cy="685800"/>
          </a:xfrm>
          <a:prstGeom prst="rightArrow">
            <a:avLst>
              <a:gd name="adj1" fmla="val 50000"/>
              <a:gd name="adj2" fmla="val 6943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tals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97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-7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13480" y="21326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47474"/>
                </a:solidFill>
                <a:latin typeface="Arial"/>
              </a:rPr>
              <a:t>A quick t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351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attended and unattended syste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113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mited batching to accounting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8984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970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mited weighbridge si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732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ingle or bulk changes to price or account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494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of each months weighings and bat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8758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ments can be viewed or issued for any time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25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selectable totals of cost or net weight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off17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066680"/>
            <a:ext cx="1905120" cy="685800"/>
          </a:xfrm>
          <a:prstGeom prst="rightArrow">
            <a:avLst>
              <a:gd name="adj1" fmla="val 50000"/>
              <a:gd name="adj2" fmla="val 69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TCH but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off3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952880" y="1143000"/>
            <a:ext cx="2438640" cy="990720"/>
          </a:xfrm>
          <a:prstGeom prst="rightArrow">
            <a:avLst>
              <a:gd name="adj1" fmla="val 50000"/>
              <a:gd name="adj2" fmla="val 6153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batched, non-batch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 all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4372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nction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553080" y="1219320"/>
            <a:ext cx="1752840" cy="838080"/>
          </a:xfrm>
          <a:prstGeom prst="rightArrow">
            <a:avLst>
              <a:gd name="adj1" fmla="val 50000"/>
              <a:gd name="adj2" fmla="val 522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ord cou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off18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off19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off19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off20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31993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XLE tickets look differ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Off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420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1676520"/>
            <a:ext cx="266688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1993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XLE tickets look differen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off2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09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ZOOM to decrease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cket siz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off2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09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ZOOM to decrease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cket siz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off23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09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ZOOM to decrease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cket siz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off24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0260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uble click using the mouse or press the ENTER ke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9360" y="255924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ctual ticket issued 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092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ZOOM to decrease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cket siz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5" name="off25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ange the pri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ange the pri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off2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off2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57" name="off27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ange the pri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off27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ange the pri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9" name="off29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-360" y="2589840"/>
            <a:ext cx="21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CHANGE PRI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5760" y="304704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new pri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hange the price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ig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2589840"/>
            <a:ext cx="213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CHANGE PRI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-5760" y="304704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new pri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off30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350424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ew price is appli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ff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off2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76520"/>
            <a:ext cx="266724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CKET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ransfer a charge to an other 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ransfer a charge to an other 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off3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ransfer a charge to an other 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off3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397" name="off32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off3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0" y="2589840"/>
            <a:ext cx="25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RANSFER CHAR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480" y="304704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custom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ransfer a charge to an other 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off32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07" name="off33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5400" y="16754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rec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13264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 hand click the mous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89840"/>
            <a:ext cx="25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RANSFER CHAR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480" y="304704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the custome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50424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transfer  is appli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67104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ransfer a charge to an other cust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off34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17" name="off35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BAT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6120" y="167544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VIEW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162920" y="152388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off3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BAT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6120" y="167544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VIEW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43800" y="91440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5760" y="2132640"/>
            <a:ext cx="229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BAT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6120" y="167544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VIEW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-5760" y="2056320"/>
            <a:ext cx="229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off37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334120" y="3276720"/>
            <a:ext cx="914400" cy="1447560"/>
          </a:xfrm>
          <a:prstGeom prst="upArrow">
            <a:avLst>
              <a:gd name="adj1" fmla="val 50000"/>
              <a:gd name="adj2" fmla="val 3957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1160" y="2437200"/>
            <a:ext cx="27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batch details 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rrect and press the OK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ff3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erform a BATC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6120" y="1675440"/>
            <a:ext cx="28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VIEW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5760" y="2056320"/>
            <a:ext cx="229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BATCH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24480" y="175248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1160" y="2437200"/>
            <a:ext cx="276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batch details 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rrect and press the OK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9360" y="294048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batch is created in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nsfer file name fi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stat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6480" y="1675440"/>
            <a:ext cx="27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FINANCIALS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2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7620120" y="152388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ff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off3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1676520"/>
            <a:ext cx="289548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USTOMER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off40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stat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6480" y="1675440"/>
            <a:ext cx="27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FINANCIALS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10440" y="2131920"/>
            <a:ext cx="2716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 Totals of either net weights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st for the selected tim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display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ost values are shown here). 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ff40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stat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6480" y="1675440"/>
            <a:ext cx="27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FINANCIALS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8640" y="2025720"/>
            <a:ext cx="307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select an individual weighbri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WEIGHBRIDGE dow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ow, select the weighbridge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SET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1219320"/>
            <a:ext cx="609840" cy="13716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7" name="off41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458200" y="1219320"/>
            <a:ext cx="685800" cy="1600200"/>
          </a:xfrm>
          <a:prstGeom prst="upArrow">
            <a:avLst>
              <a:gd name="adj1" fmla="val 50000"/>
              <a:gd name="adj2" fmla="val 58333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stat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6480" y="1675440"/>
            <a:ext cx="274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FINANCIALS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8640" y="2132280"/>
            <a:ext cx="307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select an individual weighbrid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s the WEIGHBRIDGE dow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r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2940120"/>
            <a:ext cx="2333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totals for the sel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ighbridge are show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off43A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3732480"/>
            <a:ext cx="23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ew statistics press the STATS butt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762120"/>
            <a:ext cx="685800" cy="1447560"/>
          </a:xfrm>
          <a:prstGeom prst="upArrow">
            <a:avLst>
              <a:gd name="adj1" fmla="val 50000"/>
              <a:gd name="adj2" fmla="val 5276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off43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stat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1440" y="1568880"/>
            <a:ext cx="29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REPORTS - 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e main menu b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3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962520" y="304920"/>
            <a:ext cx="914400" cy="1447560"/>
          </a:xfrm>
          <a:prstGeom prst="upArrow">
            <a:avLst>
              <a:gd name="adj1" fmla="val 50000"/>
              <a:gd name="adj2" fmla="val 39577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stat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-1440" y="1568880"/>
            <a:ext cx="29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REPORTS - 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e main menu b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9" name="off45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-7560" y="2208600"/>
            <a:ext cx="231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report crit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O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2895480"/>
            <a:ext cx="685800" cy="1219320"/>
          </a:xfrm>
          <a:prstGeom prst="upArrow">
            <a:avLst>
              <a:gd name="adj1" fmla="val 50000"/>
              <a:gd name="adj2" fmla="val 44449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0748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a stat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-1440" y="1568880"/>
            <a:ext cx="29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REPORTS - 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e main menu b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-7560" y="2208600"/>
            <a:ext cx="231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firm the report crite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press O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off4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-10080" y="2787840"/>
            <a:ext cx="285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e through the stat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wards or backwards, using th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vigator arrow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457200"/>
            <a:ext cx="609840" cy="13716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off46A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27421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asiest to operate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419720" y="4954680"/>
            <a:ext cx="360036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b1b2ac"/>
                </a:solidFill>
                <a:latin typeface="Arial"/>
              </a:rPr>
              <a:t>The End</a:t>
            </a:r>
            <a:endParaRPr b="1" lang="en-US" sz="7200" spc="1" strike="noStrike">
              <a:ln w="0">
                <a:noFill/>
              </a:ln>
              <a:solidFill>
                <a:srgbClr val="b1b2ac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-144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a36f"/>
                </a:solidFill>
                <a:latin typeface="Arial"/>
              </a:rPr>
              <a:t>DayWa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a36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bda36f"/>
                </a:solidFill>
                <a:latin typeface="Arial"/>
              </a:rPr>
              <a:t>OFF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5" name="off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84360" y="0"/>
            <a:ext cx="7851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ard Weighbridges Pty Limi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ite 2, 895 Pacific Hw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1 Mary P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mble NSW 207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ydalmere NSW 21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: (02) 9983 087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: (02) 9684 46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x: (02) 9983 087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x: (02) 9684 46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7" name="HSSLOGOA" descr=""/>
          <p:cNvPicPr/>
          <p:nvPr/>
        </p:nvPicPr>
        <p:blipFill>
          <a:blip r:embed="rId1"/>
          <a:stretch/>
        </p:blipFill>
        <p:spPr>
          <a:xfrm>
            <a:off x="534960" y="3581280"/>
            <a:ext cx="3502080" cy="249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4876920" y="3581280"/>
          <a:ext cx="3808440" cy="25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3581280"/>
                    <a:ext cx="380844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>
            <a:hlinkClick r:id="" action="ppaction://hlinkshowjump?jump=firstslide"/>
          </p:cNvPr>
          <p:cNvSpPr/>
          <p:nvPr/>
        </p:nvSpPr>
        <p:spPr>
          <a:xfrm>
            <a:off x="5715000" y="6249960"/>
            <a:ext cx="1371600" cy="60804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8709" h="21600">
                <a:moveTo>
                  <a:pt x="0" y="0"/>
                </a:moveTo>
                <a:lnTo>
                  <a:pt x="48709" y="0"/>
                </a:lnTo>
                <a:lnTo>
                  <a:pt x="48709" y="21600"/>
                </a:lnTo>
                <a:lnTo>
                  <a:pt x="0" y="21600"/>
                </a:lnTo>
                <a:close/>
              </a:path>
              <a:path fill="lightenLess" w="48709" h="21600">
                <a:moveTo>
                  <a:pt x="0" y="0"/>
                </a:moveTo>
                <a:lnTo>
                  <a:pt x="48709" y="0"/>
                </a:lnTo>
                <a:lnTo>
                  <a:pt x="47309" y="1400"/>
                </a:lnTo>
                <a:lnTo>
                  <a:pt x="1400" y="1400"/>
                </a:lnTo>
                <a:close/>
              </a:path>
              <a:path fill="darken" w="48709" h="21600">
                <a:moveTo>
                  <a:pt x="48709" y="0"/>
                </a:moveTo>
                <a:lnTo>
                  <a:pt x="48709" y="21600"/>
                </a:lnTo>
                <a:lnTo>
                  <a:pt x="47309" y="20200"/>
                </a:lnTo>
                <a:lnTo>
                  <a:pt x="47309" y="1400"/>
                </a:lnTo>
                <a:close/>
              </a:path>
              <a:path fill="darkenLess" w="48709" h="21600">
                <a:moveTo>
                  <a:pt x="487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09" y="20200"/>
                </a:lnTo>
                <a:close/>
              </a:path>
              <a:path fill="lighten" w="487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09" h="21600">
                <a:moveTo>
                  <a:pt x="24354" y="3837"/>
                </a:moveTo>
                <a:lnTo>
                  <a:pt x="26931" y="6448"/>
                </a:ln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lnTo>
                  <a:pt x="31317" y="10800"/>
                </a:lnTo>
                <a:lnTo>
                  <a:pt x="29664" y="10800"/>
                </a:lnTo>
                <a:lnTo>
                  <a:pt x="29664" y="17989"/>
                </a:lnTo>
                <a:lnTo>
                  <a:pt x="19045" y="17989"/>
                </a:lnTo>
                <a:lnTo>
                  <a:pt x="19045" y="10800"/>
                </a:lnTo>
                <a:lnTo>
                  <a:pt x="17391" y="10800"/>
                </a:lnTo>
                <a:close/>
              </a:path>
              <a:path fill="darkenLess" w="48709" h="21600">
                <a:moveTo>
                  <a:pt x="26931" y="6448"/>
                </a:moveTo>
                <a:lnTo>
                  <a:pt x="26931" y="4707"/>
                </a:lnTo>
                <a:lnTo>
                  <a:pt x="28706" y="4707"/>
                </a:lnTo>
                <a:lnTo>
                  <a:pt x="28706" y="8224"/>
                </a:lnTo>
                <a:close/>
              </a:path>
              <a:path fill="darkenLess" w="48709" h="21600">
                <a:moveTo>
                  <a:pt x="23432" y="14299"/>
                </a:moveTo>
                <a:lnTo>
                  <a:pt x="25277" y="14299"/>
                </a:lnTo>
                <a:lnTo>
                  <a:pt x="25277" y="17989"/>
                </a:lnTo>
                <a:lnTo>
                  <a:pt x="29664" y="17989"/>
                </a:lnTo>
                <a:lnTo>
                  <a:pt x="29664" y="10800"/>
                </a:lnTo>
                <a:lnTo>
                  <a:pt x="19045" y="10800"/>
                </a:lnTo>
                <a:lnTo>
                  <a:pt x="19045" y="17989"/>
                </a:lnTo>
                <a:lnTo>
                  <a:pt x="23432" y="17989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endshow"/>
          </p:cNvPr>
          <p:cNvSpPr/>
          <p:nvPr/>
        </p:nvSpPr>
        <p:spPr>
          <a:xfrm>
            <a:off x="7316640" y="6249960"/>
            <a:ext cx="1292400" cy="608040"/>
          </a:xfrm>
          <a:custGeom>
            <a:avLst/>
            <a:gdLst>
              <a:gd name="textAreaLeft" fmla="*/ 39240 w 1292400"/>
              <a:gd name="textAreaRight" fmla="*/ 1253160 w 1292400"/>
              <a:gd name="textAreaTop" fmla="*/ 39240 h 608040"/>
              <a:gd name="textAreaBottom" fmla="*/ 568800 h 608040"/>
            </a:gdLst>
            <a:ahLst/>
            <a:rect l="textAreaLeft" t="textAreaTop" r="textAreaRight" b="textAreaBottom"/>
            <a:pathLst>
              <a:path w="45897" h="21600">
                <a:moveTo>
                  <a:pt x="0" y="0"/>
                </a:moveTo>
                <a:lnTo>
                  <a:pt x="45897" y="0"/>
                </a:lnTo>
                <a:lnTo>
                  <a:pt x="45897" y="21600"/>
                </a:lnTo>
                <a:lnTo>
                  <a:pt x="0" y="21600"/>
                </a:lnTo>
                <a:close/>
              </a:path>
              <a:path fill="lightenLess" w="45897" h="21600">
                <a:moveTo>
                  <a:pt x="0" y="0"/>
                </a:moveTo>
                <a:lnTo>
                  <a:pt x="45897" y="0"/>
                </a:lnTo>
                <a:lnTo>
                  <a:pt x="44497" y="1400"/>
                </a:lnTo>
                <a:lnTo>
                  <a:pt x="1400" y="1400"/>
                </a:lnTo>
                <a:close/>
              </a:path>
              <a:path fill="darken" w="45897" h="21600">
                <a:moveTo>
                  <a:pt x="45897" y="0"/>
                </a:moveTo>
                <a:lnTo>
                  <a:pt x="45897" y="21600"/>
                </a:lnTo>
                <a:lnTo>
                  <a:pt x="44497" y="20200"/>
                </a:lnTo>
                <a:lnTo>
                  <a:pt x="44497" y="1400"/>
                </a:lnTo>
                <a:close/>
              </a:path>
              <a:path fill="darkenLess" w="45897" h="21600">
                <a:moveTo>
                  <a:pt x="458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7" y="20200"/>
                </a:lnTo>
                <a:close/>
              </a:path>
              <a:path fill="lighten" w="458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1714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ff4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33" name="off3" descr="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off3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33920" y="1676520"/>
            <a:ext cx="312408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Defined s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off5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133720" y="2362320"/>
            <a:ext cx="266688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ect sort b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y fiel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ff1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762120"/>
            <a:ext cx="266688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319320" y="6339240"/>
            <a:ext cx="365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ardware &amp; Systems Sales Pty Limi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tandard Auto Weig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4520" y="-9144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a36f"/>
                </a:solidFill>
                <a:latin typeface="Arial"/>
              </a:rPr>
              <a:t>DayWa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331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main OFFICE screen. The main features 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3960" y="1675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rt butt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off6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2520" y="2056320"/>
            <a:ext cx="12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ge tab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28600"/>
            <a:ext cx="2133360" cy="533520"/>
          </a:xfrm>
          <a:prstGeom prst="leftArrow">
            <a:avLst>
              <a:gd name="adj1" fmla="val 50000"/>
              <a:gd name="adj2" fmla="val 99966"/>
            </a:avLst>
          </a:prstGeom>
          <a:solidFill>
            <a:srgbClr val="00004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e R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07:28:26Z</dcterms:created>
  <dc:creator>Andrew Falk</dc:creator>
  <dc:description/>
  <dc:language>en-US</dc:language>
  <cp:lastModifiedBy>HSS</cp:lastModifiedBy>
  <cp:lastPrinted>1997-08-18T05:26:12Z</cp:lastPrinted>
  <dcterms:modified xsi:type="dcterms:W3CDTF">2000-10-04T01:09:26Z</dcterms:modified>
  <cp:revision>381</cp:revision>
  <dc:subject/>
  <dc:title>No Slide Title</dc:title>
</cp:coreProperties>
</file>