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231CC-73E6-495A-90BC-4F4749EF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E6E1F-460C-4F1A-8372-3BC4AF74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31D27-68D2-4DEA-B018-209EAE35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9B2E8-C24A-4419-8156-52EB2D7C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ED698-1C29-4FD7-BD42-062F93C3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2D1DC-A5CF-4A51-9F71-E7600328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64483-223B-4526-B0EC-2783A88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AFA52-1524-46F1-A8B4-A8188F4F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DA3C6-6255-47A8-A924-F8574E5B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824BE-AE88-4CDA-807E-2493F0CE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7316B-CE54-48D6-8886-CFADFD80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79549-12B7-43DC-A16D-1720952A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5E986-AAC7-4717-A49B-D5ABA2BA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54595-5524-43A0-BF4B-112D7444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0665C-43CC-4030-BFA0-57295D4D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B3856-C897-45B9-A5E3-BA16CB7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1D0C2-9CFA-4D80-BC51-88EA95FA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C4C6F-819B-4AE6-AC90-C2C55BA8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8573B-D1C2-4F73-9E51-D3FADE7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FE8B6-605F-4586-9ED9-F079E004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79E0F-AC55-44B9-880B-61A8488F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DAFF7-C81B-4572-AB3C-60FC98D6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84DBB-1211-429D-8CF1-7E9D1C8A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A9C58B-F33B-461E-BADF-F216D01E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63134-29F1-43D7-8C31-C98F7894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FD3F3-1938-4565-8DD0-1FD33C47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93418-82F8-4785-A4C8-6C5510BB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784F4-6017-4EBB-BE85-04C9ADF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53573-6CA2-42EC-8EAF-641C1C11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D6C88-D3C3-4F78-BB11-D21D12A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958BB-C67C-4F28-8D43-E5F49A7C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4CB29-CA00-4404-A7BB-E771CFE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C229A-54D3-4C9C-BD0D-EF8DDE29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71794-A799-4E9F-8FA3-398DBAC9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B3D9C-D2A3-4C68-AAE1-EAEBD4DD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CA355-6EC2-4D9F-8B47-92398087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7760"/>
            <a:ext cx="5754600" cy="23702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3000" cy="30211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252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876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828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19080"/>
            <a:ext cx="9144000" cy="168120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19080"/>
            <a:ext cx="8388360" cy="106524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9080"/>
            <a:ext cx="4579920" cy="45252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ftr" idx="1"/>
          </p:nvPr>
        </p:nvSpPr>
        <p:spPr>
          <a:xfrm>
            <a:off x="0" y="6249600"/>
            <a:ext cx="373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7760"/>
            <a:ext cx="5754600" cy="23702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3000" cy="30211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252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876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828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19080"/>
            <a:ext cx="9144000" cy="168120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19080"/>
            <a:ext cx="8388360" cy="106524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19080"/>
            <a:ext cx="4579920" cy="45252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28564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684360" y="6249960"/>
            <a:ext cx="1906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9960"/>
            <a:ext cx="1906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8B4-3BD0-466B-93B8-84F1B00D2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3962-BC56-4E9C-87B0-D850E7EE09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771F-46D0-4FE6-A920-08A2C16942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62320" y="3811680"/>
            <a:ext cx="48006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7124760" cy="534348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6477120" y="6019920"/>
            <a:ext cx="2361960" cy="533160"/>
          </a:xfrm>
          <a:custGeom>
            <a:avLst/>
            <a:gdLst>
              <a:gd name="textAreaLeft" fmla="*/ 34560 w 2361960"/>
              <a:gd name="textAreaRight" fmla="*/ 2327400 w 2361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5640" h="21600">
                <a:moveTo>
                  <a:pt x="0" y="0"/>
                </a:moveTo>
                <a:lnTo>
                  <a:pt x="95640" y="0"/>
                </a:lnTo>
                <a:lnTo>
                  <a:pt x="95640" y="21600"/>
                </a:lnTo>
                <a:lnTo>
                  <a:pt x="0" y="21600"/>
                </a:lnTo>
                <a:close/>
              </a:path>
              <a:path fill="lightenLess" w="95640" h="21600">
                <a:moveTo>
                  <a:pt x="0" y="0"/>
                </a:moveTo>
                <a:lnTo>
                  <a:pt x="95640" y="0"/>
                </a:lnTo>
                <a:lnTo>
                  <a:pt x="94241" y="1400"/>
                </a:lnTo>
                <a:lnTo>
                  <a:pt x="1400" y="1400"/>
                </a:lnTo>
                <a:close/>
              </a:path>
              <a:path fill="darken" w="95640" h="21600">
                <a:moveTo>
                  <a:pt x="95640" y="0"/>
                </a:moveTo>
                <a:lnTo>
                  <a:pt x="95640" y="21600"/>
                </a:lnTo>
                <a:lnTo>
                  <a:pt x="94241" y="20200"/>
                </a:lnTo>
                <a:lnTo>
                  <a:pt x="94241" y="1400"/>
                </a:lnTo>
                <a:close/>
              </a:path>
              <a:path fill="darkenLess" w="95640" h="21600">
                <a:moveTo>
                  <a:pt x="95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41" y="20200"/>
                </a:lnTo>
                <a:close/>
              </a:path>
              <a:path fill="lighten" w="95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da36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 HSSilo 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634572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5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abl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action button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600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945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abl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action button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48320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2764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945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abl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action button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48320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-11160" y="19152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lo to Silo internal transfer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945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abl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action button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48320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11160" y="19152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lo to Silo internal transfer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4320" y="234828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5820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5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abl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action button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48320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-11160" y="19152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lo to Silo internal transfer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320" y="234828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-9360" y="278028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nual entry of weight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92720" y="3645000"/>
            <a:ext cx="685800" cy="1904760"/>
          </a:xfrm>
          <a:prstGeom prst="upArrow">
            <a:avLst>
              <a:gd name="adj1" fmla="val 50000"/>
              <a:gd name="adj2" fmla="val 69436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945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abl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action button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48320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-11160" y="19152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lo to Silo internal transfer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-4320" y="234828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9360" y="278028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nual entry of weight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10440" y="321192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silo total and capacity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96000" y="393372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945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abl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action button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48320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11160" y="19152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lo to Silo internal transfer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4320" y="234828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9360" y="278028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nual entry of weight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10440" y="321192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silo total and capacity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7920" y="36439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rd sample detail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5820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ual button can be used to enter weigh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7200" y="126720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manual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ual button can be used to enter weigh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-7200" y="126720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manual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6000" y="907920"/>
            <a:ext cx="2394000" cy="576360"/>
          </a:xfrm>
          <a:prstGeom prst="rightArrow">
            <a:avLst>
              <a:gd name="adj1" fmla="val 50000"/>
              <a:gd name="adj2" fmla="val 103841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-10080" y="1772280"/>
            <a:ext cx="296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 the Gross and Tare weigh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071880" y="189000"/>
            <a:ext cx="6072120" cy="45068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42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ual button can be used to enter weigh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-7200" y="126720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manual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10080" y="1772280"/>
            <a:ext cx="296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 the Gross and Tare weigh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8280" y="2242080"/>
            <a:ext cx="258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total weight is display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matical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51640" y="1341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797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534240"/>
            <a:ext cx="744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da36f"/>
                </a:solidFill>
                <a:latin typeface="Arial"/>
              </a:rPr>
              <a:t>HSSILO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13480" y="21326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474"/>
                </a:solidFill>
                <a:latin typeface="Arial"/>
              </a:rPr>
              <a:t>A quick t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1600"/>
            <a:ext cx="59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Fair Trading Appro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3732840"/>
            <a:ext cx="19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U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411228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hensive History Sear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494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c Adjustment of Silo Capacity by Product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2969280"/>
            <a:ext cx="43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or Private U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486792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 View of Customer, Silo and Product Detai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1530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lo 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10080" y="1843200"/>
            <a:ext cx="281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ick access to comprehen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ical weighings and produ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81040" y="1294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History Scre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2286000"/>
            <a:ext cx="2590560" cy="1752480"/>
          </a:xfrm>
          <a:prstGeom prst="rightArrow">
            <a:avLst>
              <a:gd name="adj1" fmla="val 50000"/>
              <a:gd name="adj2" fmla="val 36956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ails of each weig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530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lo 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-10080" y="1843200"/>
            <a:ext cx="281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ick access to comprehen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ical weighings and produ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81040" y="1294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History Scre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11160" y="2970360"/>
            <a:ext cx="29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verview of totals for each silo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ducts owned by each custom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silos allocated to each produc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457200"/>
            <a:ext cx="1752840" cy="1066680"/>
          </a:xfrm>
          <a:prstGeom prst="rightArrow">
            <a:avLst>
              <a:gd name="adj1" fmla="val 50000"/>
              <a:gd name="adj2" fmla="val 41082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0" y="623268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8000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60" y="1949760"/>
            <a:ext cx="27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Receive or Des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6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0" y="623268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960" y="1949760"/>
            <a:ext cx="27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Receive or Des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245772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60" y="1949760"/>
            <a:ext cx="27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Receive or Des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245772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64356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n LIS (Loader Information Sheet) will be printed at this time for information to ground staf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2995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 to save the current weight and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960" y="1949760"/>
            <a:ext cx="27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Receive or Des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245772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21164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995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 to save the current weight and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507560"/>
            <a:ext cx="27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ame Accept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64356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n LIS (Loader Information Sheet) will be printed at this time for information to ground staf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960" y="1949760"/>
            <a:ext cx="27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Receive or Des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245772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80360" y="1773360"/>
            <a:ext cx="685800" cy="1904760"/>
          </a:xfrm>
          <a:prstGeom prst="upArrow">
            <a:avLst>
              <a:gd name="adj1" fmla="val 50000"/>
              <a:gd name="adj2" fmla="val 69436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2995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 to save the current weight and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4507560"/>
            <a:ext cx="27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ame Accept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64356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n LIS (Loader Information Sheet) will be printed at this time for information to ground staf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494064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held information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3880" y="187560"/>
            <a:ext cx="27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view HELD weighings at an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m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380360" y="1773360"/>
            <a:ext cx="685800" cy="1904760"/>
          </a:xfrm>
          <a:prstGeom prst="upArrow">
            <a:avLst>
              <a:gd name="adj1" fmla="val 50000"/>
              <a:gd name="adj2" fmla="val 69436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1124280"/>
            <a:ext cx="27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EXTRACT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9636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071880" y="189000"/>
            <a:ext cx="6072120" cy="45068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3880" y="187560"/>
            <a:ext cx="27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view HELD weighings at an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m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1124280"/>
            <a:ext cx="27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EXTRACT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85080" y="350028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1555920"/>
            <a:ext cx="278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HELD weighing details 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 and can be sel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y double click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60" y="1447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complete the weighing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05596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registration in the REGO-1 field or press the EXTRACT button and select the relevant weig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19080" y="2575440"/>
            <a:ext cx="83448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AA1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75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Silo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333360"/>
            <a:ext cx="3024000" cy="1760400"/>
          </a:xfrm>
          <a:prstGeom prst="rightArrow">
            <a:avLst>
              <a:gd name="adj1" fmla="val 50000"/>
              <a:gd name="adj2" fmla="val 42945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to 4 platforms + 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ero indicato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 Information Box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culate net weight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60" y="1447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complete the weighing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205596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registration in the REGO-1 field or press the EXTRACT button and select the relevant weig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281664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vious HELD 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67640" y="1700280"/>
            <a:ext cx="685800" cy="1904760"/>
          </a:xfrm>
          <a:prstGeom prst="upArrow">
            <a:avLst>
              <a:gd name="adj1" fmla="val 50000"/>
              <a:gd name="adj2" fmla="val 69436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60" y="1447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complete the weighing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205596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registration in the REGO-1 field or press the EXTRACT button and select the relevant weig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81664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vious HELD 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516720" y="198900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35628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CALC button to view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ET weigh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60" y="1447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complete the weighing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205596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registration in the REGO-1 field or press the EXTRACT button and select the relevant weig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281664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vious HELD 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0836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35628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CALC button to view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ET weigh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0042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ET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441828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docket is printed and databases updated with new weighing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6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6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2764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5040" y="1627560"/>
            <a:ext cx="26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27640" y="2637000"/>
            <a:ext cx="685800" cy="1904760"/>
          </a:xfrm>
          <a:prstGeom prst="upArrow">
            <a:avLst>
              <a:gd name="adj1" fmla="val 50000"/>
              <a:gd name="adj2" fmla="val 69436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5040" y="1627560"/>
            <a:ext cx="26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222408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owner of  the product from the customer name or code li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-5040" y="1627560"/>
            <a:ext cx="26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22408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owner of  the product from the customer name or code li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-7200" y="3199320"/>
            <a:ext cx="27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remaining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071880" y="189000"/>
            <a:ext cx="6072120" cy="45082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67280" y="234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-5040" y="1627560"/>
            <a:ext cx="26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222408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owner of  the product from the customer name or code li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7200" y="3199320"/>
            <a:ext cx="27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remaining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-5760" y="3732840"/>
            <a:ext cx="21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11640" y="2421000"/>
            <a:ext cx="685800" cy="1904760"/>
          </a:xfrm>
          <a:prstGeom prst="upArrow">
            <a:avLst>
              <a:gd name="adj1" fmla="val 50000"/>
              <a:gd name="adj2" fmla="val 69436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-5040" y="1627560"/>
            <a:ext cx="26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22408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owner of  the product from the customer name or code li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-7200" y="3199320"/>
            <a:ext cx="27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remaining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-5760" y="3732840"/>
            <a:ext cx="21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-7560" y="4113720"/>
            <a:ext cx="308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Operator Accept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a TRANSFER docket is prin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071880" y="189000"/>
            <a:ext cx="6072120" cy="4508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67640" y="184464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5040" y="1627560"/>
            <a:ext cx="26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222408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owner of  the product from the customer name or code li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7200" y="3199320"/>
            <a:ext cx="27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remaining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5760" y="3732840"/>
            <a:ext cx="21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1160" y="4219920"/>
            <a:ext cx="29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Operator Accept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472320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held information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5299200"/>
            <a:ext cx="278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 off by selecting EXTRAC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then the NET button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070080" y="189000"/>
            <a:ext cx="6073920" cy="45082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96000" y="378936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5040" y="1627560"/>
            <a:ext cx="26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222408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owner of  the product from the customer name or code li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-7200" y="3199320"/>
            <a:ext cx="27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remaining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-5760" y="3732840"/>
            <a:ext cx="21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11160" y="4219920"/>
            <a:ext cx="29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Operator Accept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472320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held information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5299200"/>
            <a:ext cx="278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 off by selecting EXTRAC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then the NET button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84720" y="1773360"/>
            <a:ext cx="3600720" cy="151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s previ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ing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Silo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1627200"/>
            <a:ext cx="282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easiest to operate BULK PRODUCT WEIGHBRIDGE software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419720" y="4954680"/>
            <a:ext cx="360036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b1b2ac"/>
                </a:solidFill>
                <a:latin typeface="Arial"/>
              </a:rPr>
              <a:t>The End</a:t>
            </a:r>
            <a:endParaRPr b="1" lang="en-US" sz="7200" spc="1" strike="noStrike">
              <a:ln w="0">
                <a:noFill/>
              </a:ln>
              <a:solidFill>
                <a:srgbClr val="b1b2ac"/>
              </a:solidFill>
              <a:latin typeface="Arial"/>
              <a:ea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8000" y="259200"/>
            <a:ext cx="27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8a34"/>
                </a:solidFill>
                <a:latin typeface="Arial"/>
              </a:rPr>
              <a:t>HSSIL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7851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ard Weighbridges Pty Limi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ite 7, 895 Pacific Hw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: (02) 9983 087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x: (02) 9983 087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2411280" y="3573360"/>
            <a:ext cx="3502080" cy="2498760"/>
          </a:xfrm>
          <a:prstGeom prst="rect">
            <a:avLst/>
          </a:prstGeom>
          <a:ln w="0">
            <a:noFill/>
          </a:ln>
        </p:spPr>
      </p:pic>
      <p:sp>
        <p:nvSpPr>
          <p:cNvPr id="555" name="">
            <a:hlinkClick r:id="" action="ppaction://hlinkshowjump?jump=firstslide"/>
          </p:cNvPr>
          <p:cNvSpPr/>
          <p:nvPr/>
        </p:nvSpPr>
        <p:spPr>
          <a:xfrm>
            <a:off x="5715000" y="6249960"/>
            <a:ext cx="1371600" cy="60804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8040"/>
              <a:gd name="textAreaBottom" fmla="*/ 568800 h 608040"/>
            </a:gdLst>
            <a:ahLst/>
            <a:rect l="textAreaLeft" t="textAreaTop" r="textAreaRight" b="textAreaBottom"/>
            <a:pathLst>
              <a:path w="48709" h="21600">
                <a:moveTo>
                  <a:pt x="0" y="0"/>
                </a:moveTo>
                <a:lnTo>
                  <a:pt x="48709" y="0"/>
                </a:lnTo>
                <a:lnTo>
                  <a:pt x="48709" y="21600"/>
                </a:lnTo>
                <a:lnTo>
                  <a:pt x="0" y="21600"/>
                </a:lnTo>
                <a:close/>
              </a:path>
              <a:path fill="lightenLess" w="48709" h="21600">
                <a:moveTo>
                  <a:pt x="0" y="0"/>
                </a:moveTo>
                <a:lnTo>
                  <a:pt x="48709" y="0"/>
                </a:lnTo>
                <a:lnTo>
                  <a:pt x="47309" y="1400"/>
                </a:lnTo>
                <a:lnTo>
                  <a:pt x="1400" y="1400"/>
                </a:lnTo>
                <a:close/>
              </a:path>
              <a:path fill="darken" w="48709" h="21600">
                <a:moveTo>
                  <a:pt x="48709" y="0"/>
                </a:moveTo>
                <a:lnTo>
                  <a:pt x="48709" y="21600"/>
                </a:lnTo>
                <a:lnTo>
                  <a:pt x="47309" y="20200"/>
                </a:lnTo>
                <a:lnTo>
                  <a:pt x="47309" y="1400"/>
                </a:lnTo>
                <a:close/>
              </a:path>
              <a:path fill="darkenLess" w="48709" h="21600">
                <a:moveTo>
                  <a:pt x="487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09" y="20200"/>
                </a:lnTo>
                <a:close/>
              </a:path>
              <a:path fill="lighten" w="487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09" h="21600">
                <a:moveTo>
                  <a:pt x="24354" y="3837"/>
                </a:moveTo>
                <a:lnTo>
                  <a:pt x="26931" y="6448"/>
                </a:lnTo>
                <a:lnTo>
                  <a:pt x="26931" y="4707"/>
                </a:lnTo>
                <a:lnTo>
                  <a:pt x="28706" y="4707"/>
                </a:lnTo>
                <a:lnTo>
                  <a:pt x="28706" y="8224"/>
                </a:lnTo>
                <a:lnTo>
                  <a:pt x="31317" y="10800"/>
                </a:lnTo>
                <a:lnTo>
                  <a:pt x="29664" y="10800"/>
                </a:lnTo>
                <a:lnTo>
                  <a:pt x="29664" y="17989"/>
                </a:lnTo>
                <a:lnTo>
                  <a:pt x="19045" y="17989"/>
                </a:lnTo>
                <a:lnTo>
                  <a:pt x="19045" y="10800"/>
                </a:lnTo>
                <a:lnTo>
                  <a:pt x="17391" y="10800"/>
                </a:lnTo>
                <a:close/>
              </a:path>
              <a:path fill="darkenLess" w="48709" h="21600">
                <a:moveTo>
                  <a:pt x="26931" y="6448"/>
                </a:moveTo>
                <a:lnTo>
                  <a:pt x="26931" y="4707"/>
                </a:lnTo>
                <a:lnTo>
                  <a:pt x="28706" y="4707"/>
                </a:lnTo>
                <a:lnTo>
                  <a:pt x="28706" y="8224"/>
                </a:lnTo>
                <a:close/>
              </a:path>
              <a:path fill="darkenLess" w="48709" h="21600">
                <a:moveTo>
                  <a:pt x="23432" y="14299"/>
                </a:moveTo>
                <a:lnTo>
                  <a:pt x="25277" y="14299"/>
                </a:lnTo>
                <a:lnTo>
                  <a:pt x="25277" y="17989"/>
                </a:lnTo>
                <a:lnTo>
                  <a:pt x="29664" y="17989"/>
                </a:lnTo>
                <a:lnTo>
                  <a:pt x="29664" y="10800"/>
                </a:lnTo>
                <a:lnTo>
                  <a:pt x="19045" y="10800"/>
                </a:lnTo>
                <a:lnTo>
                  <a:pt x="19045" y="17989"/>
                </a:lnTo>
                <a:lnTo>
                  <a:pt x="23432" y="17989"/>
                </a:lnTo>
                <a:close/>
              </a:path>
            </a:pathLst>
          </a:custGeom>
          <a:solidFill>
            <a:srgbClr val="71714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>
            <a:hlinkClick r:id="" action="ppaction://hlinkshowjump?jump=endshow"/>
          </p:cNvPr>
          <p:cNvSpPr/>
          <p:nvPr/>
        </p:nvSpPr>
        <p:spPr>
          <a:xfrm>
            <a:off x="7316640" y="6249960"/>
            <a:ext cx="1292400" cy="608040"/>
          </a:xfrm>
          <a:custGeom>
            <a:avLst/>
            <a:gdLst>
              <a:gd name="textAreaLeft" fmla="*/ 39240 w 1292400"/>
              <a:gd name="textAreaRight" fmla="*/ 1253160 w 1292400"/>
              <a:gd name="textAreaTop" fmla="*/ 39240 h 608040"/>
              <a:gd name="textAreaBottom" fmla="*/ 568800 h 608040"/>
            </a:gdLst>
            <a:ahLst/>
            <a:rect l="textAreaLeft" t="textAreaTop" r="textAreaRight" b="textAreaBottom"/>
            <a:pathLst>
              <a:path w="45897" h="21600">
                <a:moveTo>
                  <a:pt x="0" y="0"/>
                </a:moveTo>
                <a:lnTo>
                  <a:pt x="45897" y="0"/>
                </a:lnTo>
                <a:lnTo>
                  <a:pt x="45897" y="21600"/>
                </a:lnTo>
                <a:lnTo>
                  <a:pt x="0" y="21600"/>
                </a:lnTo>
                <a:close/>
              </a:path>
              <a:path fill="lightenLess" w="45897" h="21600">
                <a:moveTo>
                  <a:pt x="0" y="0"/>
                </a:moveTo>
                <a:lnTo>
                  <a:pt x="45897" y="0"/>
                </a:lnTo>
                <a:lnTo>
                  <a:pt x="44497" y="1400"/>
                </a:lnTo>
                <a:lnTo>
                  <a:pt x="1400" y="1400"/>
                </a:lnTo>
                <a:close/>
              </a:path>
              <a:path fill="darken" w="45897" h="21600">
                <a:moveTo>
                  <a:pt x="45897" y="0"/>
                </a:moveTo>
                <a:lnTo>
                  <a:pt x="45897" y="21600"/>
                </a:lnTo>
                <a:lnTo>
                  <a:pt x="44497" y="20200"/>
                </a:lnTo>
                <a:lnTo>
                  <a:pt x="44497" y="1400"/>
                </a:lnTo>
                <a:close/>
              </a:path>
              <a:path fill="darkenLess" w="45897" h="21600">
                <a:moveTo>
                  <a:pt x="458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7" y="20200"/>
                </a:lnTo>
                <a:close/>
              </a:path>
              <a:path fill="lighten" w="458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1714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0120" y="228492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 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2000" y="2349360"/>
            <a:ext cx="5639040" cy="2159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s arranged int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on butt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ing type butt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scellaneous butt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 Function Keys or mouse click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Silo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0120" y="228492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 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2742120"/>
            <a:ext cx="27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information fiel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2997360"/>
            <a:ext cx="2741400" cy="2016000"/>
          </a:xfrm>
          <a:prstGeom prst="rightArrow">
            <a:avLst>
              <a:gd name="adj1" fmla="val 50000"/>
              <a:gd name="adj2" fmla="val 33996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user defined fiel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2 defined here – Imp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Moisture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Silo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120" y="228492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 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742120"/>
            <a:ext cx="27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information fiel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7600" y="3199320"/>
            <a:ext cx="16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tares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2637000"/>
            <a:ext cx="2970360" cy="2181240"/>
          </a:xfrm>
          <a:prstGeom prst="rightArrow">
            <a:avLst>
              <a:gd name="adj1" fmla="val 50000"/>
              <a:gd name="adj2" fmla="val 34044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s and Gross weigh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d for netting off 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own here as well as al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ion criteria such a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ount co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Silo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0120" y="228492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 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742120"/>
            <a:ext cx="27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information fiel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7600" y="3199320"/>
            <a:ext cx="16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tares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7840" y="364392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on 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9280" y="549360"/>
            <a:ext cx="2832120" cy="2736720"/>
          </a:xfrm>
          <a:prstGeom prst="rightArrow">
            <a:avLst>
              <a:gd name="adj1" fmla="val 50000"/>
              <a:gd name="adj2" fmla="val 25871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on Bar show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date and ti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ing 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xt Ticket Num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culated Net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rator Initi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339240"/>
            <a:ext cx="310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Silo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6084720" cy="4516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0120" y="228492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 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742120"/>
            <a:ext cx="27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information fiel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7600" y="3199320"/>
            <a:ext cx="16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tares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1360" y="4075560"/>
            <a:ext cx="26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and delivery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319320" y="645228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Silo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680" y="450756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duct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1000" y="4940640"/>
            <a:ext cx="25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ondary customer 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7840" y="364392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on 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8000" y="2205000"/>
            <a:ext cx="2970360" cy="792360"/>
          </a:xfrm>
          <a:prstGeom prst="rightArrow">
            <a:avLst>
              <a:gd name="adj1" fmla="val 50000"/>
              <a:gd name="adj2" fmla="val 93719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3213000"/>
            <a:ext cx="2970000" cy="792360"/>
          </a:xfrm>
          <a:prstGeom prst="rightArrow">
            <a:avLst>
              <a:gd name="adj1" fmla="val 50000"/>
              <a:gd name="adj2" fmla="val 93707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8000" y="4005360"/>
            <a:ext cx="2970000" cy="792000"/>
          </a:xfrm>
          <a:prstGeom prst="rightArrow">
            <a:avLst>
              <a:gd name="adj1" fmla="val 50000"/>
              <a:gd name="adj2" fmla="val 93750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07:28:26Z</dcterms:created>
  <dc:creator>Andrew Falk</dc:creator>
  <dc:description/>
  <dc:language>en-US</dc:language>
  <cp:lastModifiedBy>admin</cp:lastModifiedBy>
  <cp:lastPrinted>1997-08-18T05:26:12Z</cp:lastPrinted>
  <dcterms:modified xsi:type="dcterms:W3CDTF">2007-11-04T02:33:12Z</dcterms:modified>
  <cp:revision>425</cp:revision>
  <dc:subject/>
  <dc:title>No Slide Title</dc:title>
</cp:coreProperties>
</file>