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5A42C-5908-45B4-9700-31240905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B405F-1983-45FA-AB33-EC153351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B69BD-9327-42C9-98D8-1F8AAE9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98921-6F96-4447-9E85-F6ACB213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0F290-AB95-4CFE-9097-D978DD8A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73F39-34F6-437B-AA94-41935B1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83A66-DE2B-4A0C-9037-8C68A27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310CB-2D7B-4398-A67E-E0E9133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94A4C-9CD6-4C61-9338-3CE73EED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C390D-4ACC-4E7E-8B6D-283BEC57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AB842-1FEE-4855-BBE0-FA5F62F4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25C85-76E5-400C-9555-2C2A9F14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7760"/>
            <a:ext cx="5754600" cy="23702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3000" cy="30211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252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876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828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19080"/>
            <a:ext cx="9144000" cy="168120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19080"/>
            <a:ext cx="8388360" cy="106524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9080"/>
            <a:ext cx="4579920" cy="45252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ftr" idx="1"/>
          </p:nvPr>
        </p:nvSpPr>
        <p:spPr>
          <a:xfrm>
            <a:off x="0" y="6249600"/>
            <a:ext cx="373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7760"/>
            <a:ext cx="5754600" cy="23702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3000" cy="30211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252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876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828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19080"/>
            <a:ext cx="9144000" cy="168120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19080"/>
            <a:ext cx="8388360" cy="106524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19080"/>
            <a:ext cx="4579920" cy="45252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28564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684360" y="6249960"/>
            <a:ext cx="1906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9960"/>
            <a:ext cx="1906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FFC6-E058-4E42-ACFC-5F0691628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320" y="3811680"/>
            <a:ext cx="48006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7124760" cy="534348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5562720" y="5943600"/>
            <a:ext cx="3276360" cy="609480"/>
          </a:xfrm>
          <a:custGeom>
            <a:avLst/>
            <a:gdLst>
              <a:gd name="textAreaLeft" fmla="*/ 39240 w 3276360"/>
              <a:gd name="textAreaRight" fmla="*/ 3237120 w 3276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6059" h="21600">
                <a:moveTo>
                  <a:pt x="0" y="0"/>
                </a:moveTo>
                <a:lnTo>
                  <a:pt x="116059" y="0"/>
                </a:lnTo>
                <a:lnTo>
                  <a:pt x="116059" y="21600"/>
                </a:lnTo>
                <a:lnTo>
                  <a:pt x="0" y="21600"/>
                </a:lnTo>
                <a:close/>
              </a:path>
              <a:path fill="lightenLess" w="116059" h="21600">
                <a:moveTo>
                  <a:pt x="0" y="0"/>
                </a:moveTo>
                <a:lnTo>
                  <a:pt x="116059" y="0"/>
                </a:lnTo>
                <a:lnTo>
                  <a:pt x="114659" y="1400"/>
                </a:lnTo>
                <a:lnTo>
                  <a:pt x="1400" y="1400"/>
                </a:lnTo>
                <a:close/>
              </a:path>
              <a:path fill="darken" w="116059" h="21600">
                <a:moveTo>
                  <a:pt x="116059" y="0"/>
                </a:moveTo>
                <a:lnTo>
                  <a:pt x="116059" y="21600"/>
                </a:lnTo>
                <a:lnTo>
                  <a:pt x="114659" y="20200"/>
                </a:lnTo>
                <a:lnTo>
                  <a:pt x="114659" y="1400"/>
                </a:lnTo>
                <a:close/>
              </a:path>
              <a:path fill="darkenLess" w="116059" h="21600">
                <a:moveTo>
                  <a:pt x="116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659" y="20200"/>
                </a:lnTo>
                <a:close/>
              </a:path>
              <a:path fill="lighten" w="116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da36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 DayWay STOCK 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2276640"/>
            <a:ext cx="3276720" cy="15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ine one produ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another produc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2240" y="228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3240" y="26658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o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940480"/>
            <a:ext cx="147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880" y="3427920"/>
            <a:ext cx="159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520" y="380880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2962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lue Added 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2205000"/>
            <a:ext cx="762120" cy="152388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2240" y="228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3240" y="26658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o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2940480"/>
            <a:ext cx="147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2880" y="3427920"/>
            <a:ext cx="159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2520" y="380880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41896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creen or     Reproce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616640"/>
            <a:ext cx="143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2276640"/>
            <a:ext cx="761760" cy="152388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2240" y="228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3240" y="26658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o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40480"/>
            <a:ext cx="147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880" y="3427920"/>
            <a:ext cx="159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2520" y="380880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41896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creen or     Reproce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616640"/>
            <a:ext cx="143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510444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(tally sheet)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1844640"/>
            <a:ext cx="761760" cy="152388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240" y="228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3240" y="26658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o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940480"/>
            <a:ext cx="147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2880" y="3427920"/>
            <a:ext cx="159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" y="380880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41896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creen or     Reproce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616640"/>
            <a:ext cx="143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510444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(tally sheet)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8520" y="556164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 Control Station on-line ind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80" y="205632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GROSS or TAR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27664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80" y="205632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GROSS or TAR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4000" y="2276640"/>
            <a:ext cx="838440" cy="1066680"/>
          </a:xfrm>
          <a:prstGeom prst="upArrow">
            <a:avLst>
              <a:gd name="adj1" fmla="val 50000"/>
              <a:gd name="adj2" fmla="val 31805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2880" y="2483280"/>
            <a:ext cx="227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DESPATCH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80" y="205632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GROSS or TAR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3240" y="2483280"/>
            <a:ext cx="23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DESPATCH 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1880" y="3016440"/>
            <a:ext cx="29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all or part of the reg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19080" y="2575440"/>
            <a:ext cx="83448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AA1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4" presetSubtype="32">
                                  <p:stCondLst>
                                    <p:cond delay="4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80" y="205632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GROSS or TAR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3240" y="2483280"/>
            <a:ext cx="23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DESPATCH 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1880" y="3016440"/>
            <a:ext cx="29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all or part of the reg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460680"/>
            <a:ext cx="278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the vehicle has been weigh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viously the last weig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ails are displayed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80" y="205632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GROSS or TAR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2483280"/>
            <a:ext cx="23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DESPATCH 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11880" y="3016440"/>
            <a:ext cx="29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all or part of the reg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460680"/>
            <a:ext cx="278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the vehicle has been weigh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viously the last weig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ails are displayed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6480" y="436464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2276640"/>
            <a:ext cx="3810240" cy="16761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urrent weight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ing inform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 be sa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80" y="205632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GROSS or TAR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3240" y="2483280"/>
            <a:ext cx="23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DESPATCH 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1880" y="3016440"/>
            <a:ext cx="29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all or part of the reg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460680"/>
            <a:ext cx="278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the vehicle has been weigh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viously the last weig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ails are displayed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6480" y="436464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1640" y="2276640"/>
            <a:ext cx="785880" cy="1676160"/>
          </a:xfrm>
          <a:prstGeom prst="upArrow">
            <a:avLst>
              <a:gd name="adj1" fmla="val 50000"/>
              <a:gd name="adj2" fmla="val 53321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8640" y="4796280"/>
            <a:ext cx="248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pt the operators na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8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797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2800"/>
            <a:ext cx="805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da36f"/>
                </a:solidFill>
                <a:latin typeface="Arial"/>
              </a:rPr>
              <a:t>HSSTOCK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13480" y="21326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474"/>
                </a:solidFill>
                <a:latin typeface="Arial"/>
              </a:rPr>
              <a:t>A quick t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36600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sy to Us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4724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uch Screen Technology for Fast Through-put of Produc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1228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rehensive History Sear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50900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tomatic Stock Adjustment of Moisture by Product Typ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98656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 Product Handling for Any Production Facilit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758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sy Stock Adjust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271120"/>
            <a:ext cx="76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Quick View of Production, Stock and Delivery Detail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5637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ple Stores and Si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80" y="205632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GROSS or TAR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3240" y="2483280"/>
            <a:ext cx="23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DESPATCH 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-11880" y="3016440"/>
            <a:ext cx="29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all or part of the reg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460680"/>
            <a:ext cx="278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the vehicle has been weigh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viously the last weig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ails are displayed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6480" y="436464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OLD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84720" y="1557360"/>
            <a:ext cx="3810240" cy="1676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urrent weight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ing information 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own as sa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8640" y="4796280"/>
            <a:ext cx="248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pt the operators na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121720"/>
            <a:ext cx="26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held weight is confirm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81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omplete the weighing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9360" y="2300400"/>
            <a:ext cx="276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registration number 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Rego1 field and press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 key on the keyboa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19080" y="2575440"/>
            <a:ext cx="83448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AA1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600"/>
                            </p:stCondLst>
                            <p:childTnLst>
                              <p:par>
                                <p:cTn id="289" nodeType="afterEffect" fill="hold" presetClass="entr" presetID="4" presetSubtype="32">
                                  <p:stCondLst>
                                    <p:cond delay="4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2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681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omplete the weighing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-9360" y="2300400"/>
            <a:ext cx="276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registration number 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Rego1 field and press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 key on the keyboa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7200" y="3275280"/>
            <a:ext cx="264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vious weighing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 display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681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omplete the weighing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6120" y="4037400"/>
            <a:ext cx="20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ET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9360" y="2300400"/>
            <a:ext cx="276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registration number 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Rego1 field and press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 key on the keyboa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7200" y="3275280"/>
            <a:ext cx="264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vious weighing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 display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2276640"/>
            <a:ext cx="685800" cy="1371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681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omplete the weighing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03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Receivable or Despatch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6120" y="4037400"/>
            <a:ext cx="20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ET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9360" y="2300400"/>
            <a:ext cx="276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registration number 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Rego1 field and press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 key on the keyboa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7200" y="3275280"/>
            <a:ext cx="264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vious weighing detai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 display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10800" y="4479840"/>
            <a:ext cx="301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firm the operators name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docket is printed, the details 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red and stockpile databases 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dated with the current net weigh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84720" y="2276640"/>
            <a:ext cx="685800" cy="1371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56360" y="2276640"/>
            <a:ext cx="609480" cy="1295280"/>
          </a:xfrm>
          <a:prstGeom prst="upArrow">
            <a:avLst>
              <a:gd name="adj1" fmla="val 50000"/>
              <a:gd name="adj2" fmla="val 53131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1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8640" y="2894040"/>
            <a:ext cx="28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In this case, a previous tare w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 and can be used for th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ing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1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8640" y="2894040"/>
            <a:ext cx="28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In this case, a previous tare w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 and can be used for th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ing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93084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ET button and confi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 all details are correc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50840" y="51055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80000" y="2205000"/>
            <a:ext cx="609480" cy="1295280"/>
          </a:xfrm>
          <a:prstGeom prst="upArrow">
            <a:avLst>
              <a:gd name="adj1" fmla="val 50000"/>
              <a:gd name="adj2" fmla="val 53131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732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8640" y="2894040"/>
            <a:ext cx="28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the information field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In this case, a previous tare w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 and can be used for th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ing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93084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ET button and confi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 all details are correc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50840" y="51055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-10800" y="4795920"/>
            <a:ext cx="301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firm the operators name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docket is printed, the details 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red and stockpile databases 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dated with the current net weigh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84720" y="2276640"/>
            <a:ext cx="685800" cy="1371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Job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4360" y="2276640"/>
            <a:ext cx="609480" cy="1295280"/>
          </a:xfrm>
          <a:prstGeom prst="upArrow">
            <a:avLst>
              <a:gd name="adj1" fmla="val 50000"/>
              <a:gd name="adj2" fmla="val 53131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03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JOB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0"/>
            <a:ext cx="2736720" cy="1832040"/>
          </a:xfrm>
          <a:prstGeom prst="rightArrow">
            <a:avLst>
              <a:gd name="adj1" fmla="val 50000"/>
              <a:gd name="adj2" fmla="val 37345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to 4 platfo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ero indicato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culate Net weight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087720" y="0"/>
            <a:ext cx="6056280" cy="4583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Job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303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JOB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292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JOB screen is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87720" y="0"/>
            <a:ext cx="6056280" cy="4583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Job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303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JOB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92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JOB screen is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32136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vehicles rego and       press the ENTER 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34200" y="2575440"/>
            <a:ext cx="80244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ZZ98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600"/>
                            </p:stCondLst>
                            <p:childTnLst>
                              <p:par>
                                <p:cTn id="401" nodeType="afterEffect" fill="hold" presetClass="entr" presetID="4" presetSubtype="32">
                                  <p:stCondLst>
                                    <p:cond delay="7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Job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303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JOB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92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JOB screen is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32136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vehicles rego and       press the ENTER 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85956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etails for the job are display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Job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303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JOB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92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JOB screen is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32136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vehicles rego and       press the ENTER 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85956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etails for the job are display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4708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ET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8360" y="2276640"/>
            <a:ext cx="785880" cy="1676160"/>
          </a:xfrm>
          <a:prstGeom prst="upArrow">
            <a:avLst>
              <a:gd name="adj1" fmla="val 50000"/>
              <a:gd name="adj2" fmla="val 53321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6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Job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303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JOB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92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JOB screen is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2136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vehicles rego and       press the ENTER 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85956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etails for the job are display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-8640" y="4867920"/>
            <a:ext cx="248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pt the operators na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11640" y="2276640"/>
            <a:ext cx="785880" cy="1676160"/>
          </a:xfrm>
          <a:prstGeom prst="upArrow">
            <a:avLst>
              <a:gd name="adj1" fmla="val 50000"/>
              <a:gd name="adj2" fmla="val 53321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4708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ET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8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3612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Job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303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perfor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JOB weig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92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JOB screen is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32136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the vehicles rego and       press the ENTER 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85956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etails for the job are display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8640" y="4867920"/>
            <a:ext cx="248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pt the operators na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44708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NET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12240" y="5298840"/>
            <a:ext cx="3039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docket is printed, the details 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red, The job and stockpil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bases are updated with t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net weigh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089160" y="0"/>
            <a:ext cx="6054840" cy="45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087720" y="0"/>
            <a:ext cx="6056280" cy="45831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6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view 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40480" y="2276640"/>
            <a:ext cx="785880" cy="1676160"/>
          </a:xfrm>
          <a:prstGeom prst="upArrow">
            <a:avLst>
              <a:gd name="adj1" fmla="val 50000"/>
              <a:gd name="adj2" fmla="val 53321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1361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ISTORY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086280" y="0"/>
            <a:ext cx="6057720" cy="45957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456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view 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7308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quired dates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y”  crite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15160" y="1200240"/>
            <a:ext cx="3809880" cy="1904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FROM and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1361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HISTORY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87520" y="1273320"/>
            <a:ext cx="2743200" cy="1904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y butt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700"/>
                            </p:stCondLst>
                            <p:childTnLst>
                              <p:par>
                                <p:cTn id="46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2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086280" y="0"/>
            <a:ext cx="6057720" cy="45957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456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view 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456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DISPLAY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4880" y="1539720"/>
            <a:ext cx="895320" cy="1905120"/>
          </a:xfrm>
          <a:prstGeom prst="upArrow">
            <a:avLst>
              <a:gd name="adj1" fmla="val 50000"/>
              <a:gd name="adj2" fmla="val 5319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456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view 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19232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ails of each weighing are shown between dates selected and sorted by the sort criteri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2565360"/>
            <a:ext cx="2590920" cy="1752480"/>
          </a:xfrm>
          <a:prstGeom prst="rightArrow">
            <a:avLst>
              <a:gd name="adj1" fmla="val 50000"/>
              <a:gd name="adj2" fmla="val 36961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ails of each weig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lour coded for eas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206880" y="0"/>
            <a:ext cx="5937120" cy="45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1628640"/>
            <a:ext cx="3241440" cy="129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s previ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ing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56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To view 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-10080" y="1227240"/>
            <a:ext cx="28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tals for each silo, product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can be viewed for an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me period in summary fo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191040" y="0"/>
            <a:ext cx="5952960" cy="45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168720" y="0"/>
            <a:ext cx="5975280" cy="4572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456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98680" y="1754280"/>
            <a:ext cx="1752480" cy="576000"/>
          </a:xfrm>
          <a:prstGeom prst="rightArrow">
            <a:avLst>
              <a:gd name="adj1" fmla="val 50000"/>
              <a:gd name="adj2" fmla="val 76063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-9000" y="1198800"/>
            <a:ext cx="26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view a docket double click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weighing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456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-11880" y="1198800"/>
            <a:ext cx="314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ocket is displayed and can b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printed if requir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049640" y="0"/>
            <a:ext cx="5094360" cy="65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3086280" y="0"/>
            <a:ext cx="6057720" cy="4595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340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4d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370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View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000" y="2940480"/>
            <a:ext cx="28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STOCK –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the HISTORY scre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304920"/>
            <a:ext cx="762120" cy="1752480"/>
          </a:xfrm>
          <a:prstGeom prst="upArrow">
            <a:avLst>
              <a:gd name="adj1" fmla="val 50000"/>
              <a:gd name="adj2" fmla="val 5748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968560" y="0"/>
            <a:ext cx="6032520" cy="4591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340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4d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1370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View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4000" y="2940480"/>
            <a:ext cx="28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STOCK –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the HISTORY scre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1200240"/>
            <a:ext cx="761760" cy="1752480"/>
          </a:xfrm>
          <a:prstGeom prst="upArrow">
            <a:avLst>
              <a:gd name="adj1" fmla="val 50000"/>
              <a:gd name="adj2" fmla="val 57514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2000" y="3580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date 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33640" y="819000"/>
            <a:ext cx="762120" cy="1752840"/>
          </a:xfrm>
          <a:prstGeom prst="upArrow">
            <a:avLst>
              <a:gd name="adj1" fmla="val 50000"/>
              <a:gd name="adj2" fmla="val 5749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2920" y="39880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Daily to view each days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340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4d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370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View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000" y="2940480"/>
            <a:ext cx="28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STOCK –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the HISTORY scre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2000" y="3580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date 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2920" y="39880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Daily to view each days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133800" y="0"/>
            <a:ext cx="6010200" cy="4573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77840" y="450720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ch production load and days totals are display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40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4d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1370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View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4000" y="2940480"/>
            <a:ext cx="28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STOCK –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the HISTORY scre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2000" y="3580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date 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920" y="39880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Daily to view each days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7840" y="450720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ch production load and days totals are display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3040" y="531360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RANGE for a summary of each produ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162240" y="0"/>
            <a:ext cx="598176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086280" y="0"/>
            <a:ext cx="6057720" cy="45957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40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4d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11876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View STOCK TO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304920"/>
            <a:ext cx="762120" cy="1752480"/>
          </a:xfrm>
          <a:prstGeom prst="upArrow">
            <a:avLst>
              <a:gd name="adj1" fmla="val 50000"/>
              <a:gd name="adj2" fmla="val 5748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3560" y="2645280"/>
            <a:ext cx="26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STOCK – STOCKP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the HISTORY scre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45673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0" y="633924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340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4d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1876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14d"/>
                </a:solidFill>
                <a:latin typeface="Arial"/>
              </a:rPr>
              <a:t>View STOCK TO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3560" y="2645280"/>
            <a:ext cx="26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STOCK – STOCKP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the HISTORY scre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5640" y="339624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her functions includ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1520" y="378360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cktak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9440" y="414540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ck movemen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4040" y="4457880"/>
            <a:ext cx="25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ck totals for any previ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9920" y="5021640"/>
            <a:ext cx="19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nciliation repor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2298960"/>
            <a:ext cx="282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easiest to operate BULK PRODUCT WEIGHBRIDGE software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419720" y="4954680"/>
            <a:ext cx="360036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b1b2ac"/>
                </a:solidFill>
                <a:latin typeface="Arial"/>
              </a:rPr>
              <a:t>The End</a:t>
            </a:r>
            <a:endParaRPr b="1" lang="en-US" sz="7200" spc="1" strike="noStrike">
              <a:ln w="0">
                <a:noFill/>
              </a:ln>
              <a:solidFill>
                <a:srgbClr val="b1b2ac"/>
              </a:solidFill>
              <a:latin typeface="Arial"/>
              <a:ea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69948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da36f"/>
                </a:solidFill>
                <a:latin typeface="Arial"/>
              </a:rPr>
              <a:t>HSStoc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2276640"/>
            <a:ext cx="761760" cy="152388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2240" y="228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7851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ard Weighbridges Pty Limi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ite 7, 895 Pacific Hw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mble NSW 207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: (02) 9983 087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x: (02) 9983 087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154240" y="3486240"/>
            <a:ext cx="3502080" cy="249876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firstslide"/>
          </p:cNvPr>
          <p:cNvSpPr/>
          <p:nvPr/>
        </p:nvSpPr>
        <p:spPr>
          <a:xfrm>
            <a:off x="5715000" y="6249960"/>
            <a:ext cx="1371600" cy="60804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8040"/>
              <a:gd name="textAreaBottom" fmla="*/ 568800 h 608040"/>
            </a:gdLst>
            <a:ahLst/>
            <a:rect l="textAreaLeft" t="textAreaTop" r="textAreaRight" b="textAreaBottom"/>
            <a:pathLst>
              <a:path w="48709" h="21600">
                <a:moveTo>
                  <a:pt x="0" y="0"/>
                </a:moveTo>
                <a:lnTo>
                  <a:pt x="48709" y="0"/>
                </a:lnTo>
                <a:lnTo>
                  <a:pt x="48709" y="21600"/>
                </a:lnTo>
                <a:lnTo>
                  <a:pt x="0" y="21600"/>
                </a:lnTo>
                <a:close/>
              </a:path>
              <a:path fill="lightenLess" w="48709" h="21600">
                <a:moveTo>
                  <a:pt x="0" y="0"/>
                </a:moveTo>
                <a:lnTo>
                  <a:pt x="48709" y="0"/>
                </a:lnTo>
                <a:lnTo>
                  <a:pt x="47309" y="1400"/>
                </a:lnTo>
                <a:lnTo>
                  <a:pt x="1400" y="1400"/>
                </a:lnTo>
                <a:close/>
              </a:path>
              <a:path fill="darken" w="48709" h="21600">
                <a:moveTo>
                  <a:pt x="48709" y="0"/>
                </a:moveTo>
                <a:lnTo>
                  <a:pt x="48709" y="21600"/>
                </a:lnTo>
                <a:lnTo>
                  <a:pt x="47309" y="20200"/>
                </a:lnTo>
                <a:lnTo>
                  <a:pt x="47309" y="1400"/>
                </a:lnTo>
                <a:close/>
              </a:path>
              <a:path fill="darkenLess" w="48709" h="21600">
                <a:moveTo>
                  <a:pt x="487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09" y="20200"/>
                </a:lnTo>
                <a:close/>
              </a:path>
              <a:path fill="lighten" w="487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09" h="21600">
                <a:moveTo>
                  <a:pt x="24354" y="3837"/>
                </a:moveTo>
                <a:lnTo>
                  <a:pt x="26931" y="6448"/>
                </a:lnTo>
                <a:lnTo>
                  <a:pt x="26931" y="4707"/>
                </a:lnTo>
                <a:lnTo>
                  <a:pt x="28706" y="4707"/>
                </a:lnTo>
                <a:lnTo>
                  <a:pt x="28706" y="8224"/>
                </a:lnTo>
                <a:lnTo>
                  <a:pt x="31317" y="10800"/>
                </a:lnTo>
                <a:lnTo>
                  <a:pt x="29664" y="10800"/>
                </a:lnTo>
                <a:lnTo>
                  <a:pt x="29664" y="17989"/>
                </a:lnTo>
                <a:lnTo>
                  <a:pt x="19045" y="17989"/>
                </a:lnTo>
                <a:lnTo>
                  <a:pt x="19045" y="10800"/>
                </a:lnTo>
                <a:lnTo>
                  <a:pt x="17391" y="10800"/>
                </a:lnTo>
                <a:close/>
              </a:path>
              <a:path fill="darkenLess" w="48709" h="21600">
                <a:moveTo>
                  <a:pt x="26931" y="6448"/>
                </a:moveTo>
                <a:lnTo>
                  <a:pt x="26931" y="4707"/>
                </a:lnTo>
                <a:lnTo>
                  <a:pt x="28706" y="4707"/>
                </a:lnTo>
                <a:lnTo>
                  <a:pt x="28706" y="8224"/>
                </a:lnTo>
                <a:close/>
              </a:path>
              <a:path fill="darkenLess" w="48709" h="21600">
                <a:moveTo>
                  <a:pt x="23432" y="14299"/>
                </a:moveTo>
                <a:lnTo>
                  <a:pt x="25277" y="14299"/>
                </a:lnTo>
                <a:lnTo>
                  <a:pt x="25277" y="17989"/>
                </a:lnTo>
                <a:lnTo>
                  <a:pt x="29664" y="17989"/>
                </a:lnTo>
                <a:lnTo>
                  <a:pt x="29664" y="10800"/>
                </a:lnTo>
                <a:lnTo>
                  <a:pt x="19045" y="10800"/>
                </a:lnTo>
                <a:lnTo>
                  <a:pt x="19045" y="17989"/>
                </a:lnTo>
                <a:lnTo>
                  <a:pt x="23432" y="17989"/>
                </a:lnTo>
                <a:close/>
              </a:path>
            </a:pathLst>
          </a:custGeom>
          <a:solidFill>
            <a:srgbClr val="71714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endshow"/>
          </p:cNvPr>
          <p:cNvSpPr/>
          <p:nvPr/>
        </p:nvSpPr>
        <p:spPr>
          <a:xfrm>
            <a:off x="7316640" y="6249960"/>
            <a:ext cx="1292400" cy="608040"/>
          </a:xfrm>
          <a:custGeom>
            <a:avLst/>
            <a:gdLst>
              <a:gd name="textAreaLeft" fmla="*/ 39240 w 1292400"/>
              <a:gd name="textAreaRight" fmla="*/ 1253160 w 1292400"/>
              <a:gd name="textAreaTop" fmla="*/ 39240 h 608040"/>
              <a:gd name="textAreaBottom" fmla="*/ 568800 h 608040"/>
            </a:gdLst>
            <a:ahLst/>
            <a:rect l="textAreaLeft" t="textAreaTop" r="textAreaRight" b="textAreaBottom"/>
            <a:pathLst>
              <a:path w="45897" h="21600">
                <a:moveTo>
                  <a:pt x="0" y="0"/>
                </a:moveTo>
                <a:lnTo>
                  <a:pt x="45897" y="0"/>
                </a:lnTo>
                <a:lnTo>
                  <a:pt x="45897" y="21600"/>
                </a:lnTo>
                <a:lnTo>
                  <a:pt x="0" y="21600"/>
                </a:lnTo>
                <a:close/>
              </a:path>
              <a:path fill="lightenLess" w="45897" h="21600">
                <a:moveTo>
                  <a:pt x="0" y="0"/>
                </a:moveTo>
                <a:lnTo>
                  <a:pt x="45897" y="0"/>
                </a:lnTo>
                <a:lnTo>
                  <a:pt x="44497" y="1400"/>
                </a:lnTo>
                <a:lnTo>
                  <a:pt x="1400" y="1400"/>
                </a:lnTo>
                <a:close/>
              </a:path>
              <a:path fill="darken" w="45897" h="21600">
                <a:moveTo>
                  <a:pt x="45897" y="0"/>
                </a:moveTo>
                <a:lnTo>
                  <a:pt x="45897" y="21600"/>
                </a:lnTo>
                <a:lnTo>
                  <a:pt x="44497" y="20200"/>
                </a:lnTo>
                <a:lnTo>
                  <a:pt x="44497" y="1400"/>
                </a:lnTo>
                <a:close/>
              </a:path>
              <a:path fill="darkenLess" w="45897" h="21600">
                <a:moveTo>
                  <a:pt x="458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7" y="20200"/>
                </a:lnTo>
                <a:close/>
              </a:path>
              <a:path fill="lighten" w="458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1714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2276640"/>
            <a:ext cx="761760" cy="152388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2240" y="228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3240" y="26658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o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276640"/>
            <a:ext cx="3581280" cy="15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raw mate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supplie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2240" y="228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3240" y="26658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o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940480"/>
            <a:ext cx="147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84720" y="2276640"/>
            <a:ext cx="3352680" cy="15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finish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duct to custome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2240" y="228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3240" y="26658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o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940480"/>
            <a:ext cx="147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2880" y="3427920"/>
            <a:ext cx="159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92400" y="0"/>
            <a:ext cx="6051600" cy="4579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8320" y="13705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cator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4200" y="182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2276640"/>
            <a:ext cx="4114800" cy="1523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er from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a stockpile or betw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ckpi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19320" y="6445800"/>
            <a:ext cx="36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2240" y="228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240" y="26658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os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940480"/>
            <a:ext cx="147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2880" y="3427920"/>
            <a:ext cx="159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p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2520" y="380880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er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58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HSSTOCK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07:28:26Z</dcterms:created>
  <dc:creator>Andrew Falk</dc:creator>
  <dc:description/>
  <dc:language>en-US</dc:language>
  <cp:lastModifiedBy>admin</cp:lastModifiedBy>
  <cp:lastPrinted>1997-08-18T05:26:12Z</cp:lastPrinted>
  <dcterms:modified xsi:type="dcterms:W3CDTF">2007-11-13T00:25:49Z</dcterms:modified>
  <cp:revision>413</cp:revision>
  <dc:subject/>
  <dc:title>No Slide Title</dc:title>
</cp:coreProperties>
</file>